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Diagram of the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Donor Site and Possible Transposition Events.Open arrowheads indicate the 5′ and 3′ ends of the transposon. The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element carries the </a:t>
            </a:r>
            <a:r>
              <a:rPr b="0" i="1" lang="en-GB" sz="1200" spc="-1" strike="noStrike">
                <a:solidFill>
                  <a:srgbClr val="000000"/>
                </a:solidFill>
                <a:latin typeface="Arial"/>
                <a:ea typeface="msgothic"/>
              </a:rPr>
              <a:t>NPTII</a:t>
            </a:r>
            <a:r>
              <a:rPr b="0" lang="en-GB" sz="1200" spc="-1" strike="noStrike">
                <a:solidFill>
                  <a:srgbClr val="000000"/>
                </a:solidFill>
                <a:latin typeface="Arial"/>
                <a:ea typeface="msgothic"/>
              </a:rPr>
              <a:t> gene, which confers resistance to kanamycin (Kan</a:t>
            </a:r>
            <a:r>
              <a:rPr b="0" lang="en-GB" sz="1200" spc="-1" strike="noStrike" baseline="33000">
                <a:solidFill>
                  <a:srgbClr val="000000"/>
                </a:solidFill>
                <a:latin typeface="Arial"/>
                <a:ea typeface="msgothic"/>
              </a:rPr>
              <a:t>R</a:t>
            </a:r>
            <a:r>
              <a:rPr b="0" lang="en-GB" sz="1200" spc="-1" strike="noStrike">
                <a:solidFill>
                  <a:srgbClr val="000000"/>
                </a:solidFill>
                <a:latin typeface="Arial"/>
                <a:ea typeface="msgothic"/>
              </a:rPr>
              <a:t>), and a modified </a:t>
            </a:r>
            <a:r>
              <a:rPr b="0" i="1" lang="en-GB" sz="1200" spc="-1" strike="noStrike">
                <a:solidFill>
                  <a:srgbClr val="000000"/>
                </a:solidFill>
                <a:latin typeface="Arial"/>
                <a:ea typeface="msgothic"/>
              </a:rPr>
              <a:t>GUS</a:t>
            </a:r>
            <a:r>
              <a:rPr b="0" lang="en-GB" sz="1200" spc="-1" strike="noStrike">
                <a:solidFill>
                  <a:srgbClr val="000000"/>
                </a:solidFill>
                <a:latin typeface="Arial"/>
                <a:ea typeface="msgothic"/>
              </a:rPr>
              <a:t> reporter gene (Sundaresan et al., 1995). Possible transposition events include the following: (1) unlinked or loosely linked transposition to the same chromosome; (2) transposition to a different chromosome; (3) closely linked transposition; and (4) closely linked transposition disrupting the </a:t>
            </a:r>
            <a:r>
              <a:rPr b="0" i="1" lang="en-GB" sz="1200" spc="-1" strike="noStrike">
                <a:solidFill>
                  <a:srgbClr val="000000"/>
                </a:solidFill>
                <a:latin typeface="Arial"/>
                <a:ea typeface="msgothic"/>
              </a:rPr>
              <a:t>IAAH</a:t>
            </a:r>
            <a:r>
              <a:rPr b="0" lang="en-GB" sz="1200" spc="-1" strike="noStrike">
                <a:solidFill>
                  <a:srgbClr val="000000"/>
                </a:solidFill>
                <a:latin typeface="Arial"/>
                <a:ea typeface="msgothic"/>
              </a:rPr>
              <a:t> gene. Hatched boxes represent left and right T-DNA borders (T-DNA-LB and T-DNA-RB,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Insertions on the Arabidopsis Sequencing Map.The positions of 312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insertions are shown. Small arrowheads represent insertion sites. Insertions in the same BAC or P1 clone (average size, ∼100 kb) are stacked together to form a single column. Therefore, this insertion map manifests resolution equal to the average size of one BAC clone. The three major hot spots correspond to NOR2-and NOR4-adjacent regions and the region surrounding the DsG1 donor site. The Arabidopsis sequence map was modified from the </a:t>
            </a:r>
            <a:r>
              <a:rPr b="0" i="1" lang="en-GB" sz="1200" spc="-1" strike="noStrike">
                <a:solidFill>
                  <a:srgbClr val="000000"/>
                </a:solidFill>
                <a:latin typeface="Arial"/>
                <a:ea typeface="msgothic"/>
              </a:rPr>
              <a:t>Arabidopsis thaliana</a:t>
            </a:r>
            <a:r>
              <a:rPr b="0" lang="en-GB" sz="1200" spc="-1" strike="noStrike">
                <a:solidFill>
                  <a:srgbClr val="000000"/>
                </a:solidFill>
                <a:latin typeface="Arial"/>
                <a:ea typeface="msgothic"/>
              </a:rPr>
              <a:t> Database at Stanford University (http://genome-www.stanford.edu/Arabidopsis). Sequencing data represent the status of Arabidopsis genome sequencing on April 2, 1999. White regions indicate unsequenced regions; green and yellow represent completed sequences available from GenBank; and red indicates sequencing in progr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Insertions in the NOR-Adjacent Region on Chromosome 4.Insertions are represented by solid triangles. The region shown includes the overlapping BAC F6N15 (25 insertions) and BAC F5I10 (16 insertions). YAC CIC5B11 covers almost the whole region and additionally carries ∼26 kb of rDNA repeats of NOR4. Precise distance from BAC F6N23 (10 insertions) to F5I10 is unknown (BAC F19J24 overlapping both clones is not yet sequenced). YAC CIC5B11 (accession number AC004708) is indicated by a broken line because it does not align perfectly with BAC F5I10. Insertions separated by &lt;1 kb are stacked on top of each o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a:t>
            </a:r>
            <a:r>
              <a:rPr b="0" i="1" lang="en-GB" sz="1200" spc="-1" strike="noStrike">
                <a:solidFill>
                  <a:srgbClr val="000000"/>
                </a:solidFill>
                <a:latin typeface="Arial"/>
                <a:ea typeface="msgothic"/>
              </a:rPr>
              <a:t>Ds</a:t>
            </a:r>
            <a:r>
              <a:rPr b="0" lang="en-GB" sz="1200" spc="-1" strike="noStrike">
                <a:solidFill>
                  <a:srgbClr val="000000"/>
                </a:solidFill>
                <a:latin typeface="Arial"/>
                <a:ea typeface="msgothic"/>
              </a:rPr>
              <a:t> Insertions within Genes Suggests Preference for 5′ Ends.</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Insertion sites were plotted according to their distance to the closest ATG start codon (including hypothetical genes). Insertions &lt;500 bp upstream and 3500 bp downstream of the ATG start are shown. Each triangle indicates the insertion position for a single independent insertion line.</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 similar analysis to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in which only well-characterized genes (i.e., the complete mRNA and genomic sequence has been published) are considered, so that the indicated ATG start codon is more likely to be accu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nalysis of Flanking Sequences from Dissociation Insertion Lines: A Database for Reverse Genetics in Arabidop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erguei Parinov, Mayalagu Sevugan, De Ye, Wei-Cai Yang, Mande Kumaran, and Venkatesan Sundares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lantcel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12):2263-227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Society of Plant Bi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01200" y="6343560"/>
            <a:ext cx="900000" cy="97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Diagram of the Ds Donor Site and Possible Transposition Events.Open arrowheads indicate the 5′ and 3′ ends of the transpos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01200" y="6343560"/>
            <a:ext cx="900000" cy="971640"/>
          </a:xfrm>
          <a:prstGeom prst="rect">
            <a:avLst/>
          </a:prstGeom>
          <a:ln w="0">
            <a:noFill/>
          </a:ln>
        </p:spPr>
      </p:pic>
      <p:pic>
        <p:nvPicPr>
          <p:cNvPr id="48" name="" descr=""/>
          <p:cNvPicPr/>
          <p:nvPr/>
        </p:nvPicPr>
        <p:blipFill>
          <a:blip r:embed="rId2"/>
          <a:stretch/>
        </p:blipFill>
        <p:spPr>
          <a:xfrm>
            <a:off x="739800" y="2523960"/>
            <a:ext cx="8604360" cy="250524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erguei Parinov et al. Plant Cell 1999;11:2263-227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Society of Plant Bi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Ds Insertions on the Arabidopsis Sequencing Map.The positions of 312 Ds insertions are show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01200" y="6343560"/>
            <a:ext cx="900000" cy="971640"/>
          </a:xfrm>
          <a:prstGeom prst="rect">
            <a:avLst/>
          </a:prstGeom>
          <a:ln w="0">
            <a:noFill/>
          </a:ln>
        </p:spPr>
      </p:pic>
      <p:pic>
        <p:nvPicPr>
          <p:cNvPr id="53" name="" descr=""/>
          <p:cNvPicPr/>
          <p:nvPr/>
        </p:nvPicPr>
        <p:blipFill>
          <a:blip r:embed="rId2"/>
          <a:stretch/>
        </p:blipFill>
        <p:spPr>
          <a:xfrm>
            <a:off x="739800" y="1481040"/>
            <a:ext cx="8604360" cy="45910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erguei Parinov et al. Plant Cell 1999;11:2263-227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Society of Plant Bi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Ds Insertions in the NOR-Adjacent Region on Chromosome 4.Insertions are represented by solid triangl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01200" y="6343560"/>
            <a:ext cx="900000" cy="971640"/>
          </a:xfrm>
          <a:prstGeom prst="rect">
            <a:avLst/>
          </a:prstGeom>
          <a:ln w="0">
            <a:noFill/>
          </a:ln>
        </p:spPr>
      </p:pic>
      <p:pic>
        <p:nvPicPr>
          <p:cNvPr id="58" name="" descr=""/>
          <p:cNvPicPr/>
          <p:nvPr/>
        </p:nvPicPr>
        <p:blipFill>
          <a:blip r:embed="rId2"/>
          <a:stretch/>
        </p:blipFill>
        <p:spPr>
          <a:xfrm>
            <a:off x="739800" y="1825560"/>
            <a:ext cx="8604360" cy="39006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erguei Parinov et al. Plant Cell 1999;11:2263-227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Society of Plant Bi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Ds Insertions within Genes Suggests Preference for 5′ Ends.(A) Insertion sites were plotted according to their distance to the closest ATG start codon (including hypothetical gen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01200" y="6343560"/>
            <a:ext cx="900000" cy="971640"/>
          </a:xfrm>
          <a:prstGeom prst="rect">
            <a:avLst/>
          </a:prstGeom>
          <a:ln w="0">
            <a:noFill/>
          </a:ln>
        </p:spPr>
      </p:pic>
      <p:pic>
        <p:nvPicPr>
          <p:cNvPr id="63" name="" descr=""/>
          <p:cNvPicPr/>
          <p:nvPr/>
        </p:nvPicPr>
        <p:blipFill>
          <a:blip r:embed="rId2"/>
          <a:stretch/>
        </p:blipFill>
        <p:spPr>
          <a:xfrm>
            <a:off x="2052720" y="1079640"/>
            <a:ext cx="5979960" cy="5394240"/>
          </a:xfrm>
          <a:prstGeom prst="rect">
            <a:avLst/>
          </a:prstGeom>
          <a:ln w="0">
            <a:noFill/>
          </a:ln>
        </p:spPr>
      </p:pic>
      <p:sp>
        <p:nvSpPr>
          <p:cNvPr id="64" name=""/>
          <p:cNvSpPr/>
          <p:nvPr/>
        </p:nvSpPr>
        <p:spPr>
          <a:xfrm>
            <a:off x="2052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erguei Parinov et al. Plant Cell 1999;11:2263-227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Society of Plant Bi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